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gif" ContentType="image/gif"/>
  <Override PartName="/ppt/media/image19.wmf" ContentType="image/x-wmf"/>
  <Override PartName="/ppt/media/image58.jpeg" ContentType="image/jpeg"/>
  <Override PartName="/ppt/media/image57.jpeg" ContentType="image/jpeg"/>
  <Override PartName="/ppt/media/image60.gif" ContentType="image/gif"/>
  <Override PartName="/ppt/media/image55.jpeg" ContentType="image/jpeg"/>
  <Override PartName="/ppt/media/image53.gif" ContentType="image/gif"/>
  <Override PartName="/ppt/media/image40.jpeg" ContentType="image/jpeg"/>
  <Override PartName="/ppt/media/image49.jpeg" ContentType="image/jpeg"/>
  <Override PartName="/ppt/media/image48.jpeg" ContentType="image/jpeg"/>
  <Override PartName="/ppt/media/image75.gif" ContentType="image/gif"/>
  <Override PartName="/ppt/media/image47.jpeg" ContentType="image/jpeg"/>
  <Override PartName="/ppt/media/image65.gif" ContentType="image/gif"/>
  <Override PartName="/ppt/media/image46.jpeg" ContentType="image/jpeg"/>
  <Override PartName="/ppt/media/image44.jpeg" ContentType="image/jpeg"/>
  <Override PartName="/ppt/media/image38.png" ContentType="image/png"/>
  <Override PartName="/ppt/media/image39.gif" ContentType="image/gif"/>
  <Override PartName="/ppt/media/image33.jpeg" ContentType="image/jpeg"/>
  <Override PartName="/ppt/media/image31.jpeg" ContentType="image/jpeg"/>
  <Override PartName="/ppt/media/image37.wmf" ContentType="image/x-wmf"/>
  <Override PartName="/ppt/media/image29.jpeg" ContentType="image/jpeg"/>
  <Override PartName="/ppt/media/image12.jpeg" ContentType="image/jpeg"/>
  <Override PartName="/ppt/media/image30.jpeg" ContentType="image/jpeg"/>
  <Override PartName="/ppt/media/image18.wmf" ContentType="image/x-wmf"/>
  <Override PartName="/ppt/media/image56.jpeg" ContentType="image/jpeg"/>
  <Override PartName="/ppt/media/image3.png" ContentType="image/png"/>
  <Override PartName="/ppt/media/image24.gif" ContentType="image/gif"/>
  <Override PartName="/ppt/media/image32.jpeg" ContentType="image/jpeg"/>
  <Override PartName="/ppt/media/image78.gif" ContentType="image/gif"/>
  <Override PartName="/ppt/media/image4.png" ContentType="image/png"/>
  <Override PartName="/ppt/media/image81.png" ContentType="image/png"/>
  <Override PartName="/ppt/media/image22.jpeg" ContentType="image/jpeg"/>
  <Override PartName="/ppt/media/image50.png" ContentType="image/png"/>
  <Override PartName="/ppt/media/image51.jpeg" ContentType="image/jpeg"/>
  <Override PartName="/ppt/media/image25.jpeg" ContentType="image/jpeg"/>
  <Override PartName="/ppt/media/image77.jpeg" ContentType="image/jpeg"/>
  <Override PartName="/ppt/media/image61.wmf" ContentType="image/x-wmf"/>
  <Override PartName="/ppt/media/image76.png" ContentType="image/png"/>
  <Override PartName="/ppt/media/image74.jpeg" ContentType="image/jpeg"/>
  <Override PartName="/ppt/media/image67.wmf" ContentType="image/x-wmf"/>
  <Override PartName="/ppt/media/image83.jpeg" ContentType="image/jpeg"/>
  <Override PartName="/ppt/media/image52.wmf" ContentType="image/x-wmf"/>
  <Override PartName="/ppt/media/image64.gif" ContentType="image/gif"/>
  <Override PartName="/ppt/media/image20.png" ContentType="image/png"/>
  <Override PartName="/ppt/media/image72.jpeg" ContentType="image/jpeg"/>
  <Override PartName="/ppt/media/image62.gif" ContentType="image/gif"/>
  <Override PartName="/ppt/media/image16.wmf" ContentType="image/x-wmf"/>
  <Override PartName="/ppt/media/image45.jpeg" ContentType="image/jpeg"/>
  <Override PartName="/ppt/media/image71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27.jpeg" ContentType="image/jpeg"/>
  <Override PartName="/ppt/media/image10.jpeg" ContentType="image/jpeg"/>
  <Override PartName="/ppt/media/image68.jpeg" ContentType="image/jpeg"/>
  <Override PartName="/ppt/media/image69.jpeg" ContentType="image/jpeg"/>
  <Override PartName="/ppt/media/image66.gif" ContentType="image/gif"/>
  <Override PartName="/ppt/media/image21.gif" ContentType="image/gif"/>
  <Override PartName="/ppt/media/image73.jpeg" ContentType="image/jpeg"/>
  <Override PartName="/ppt/media/image13.jpeg" ContentType="image/jpeg"/>
  <Override PartName="/ppt/media/image1.jpeg" ContentType="image/jpeg"/>
  <Override PartName="/ppt/media/image35.jpeg" ContentType="image/jpeg"/>
  <Override PartName="/ppt/media/image54.gif" ContentType="image/gif"/>
  <Override PartName="/ppt/media/image79.jpeg" ContentType="image/jpeg"/>
  <Override PartName="/ppt/media/image7.png" ContentType="image/png"/>
  <Override PartName="/ppt/media/image34.jpeg" ContentType="image/jpeg"/>
  <Override PartName="/ppt/media/image14.jpeg" ContentType="image/jpeg"/>
  <Override PartName="/ppt/media/image41.jpeg" ContentType="image/jpeg"/>
  <Override PartName="/ppt/media/image63.gif" ContentType="image/gif"/>
  <Override PartName="/ppt/media/image82.gif" ContentType="image/gif"/>
  <Override PartName="/ppt/media/image23.jpeg" ContentType="image/jpeg"/>
  <Override PartName="/ppt/media/image17.gif" ContentType="image/gif"/>
  <Override PartName="/ppt/media/image8.png" ContentType="image/png"/>
  <Override PartName="/ppt/media/image28.jpeg" ContentType="image/jpeg"/>
  <Override PartName="/ppt/media/image11.jpeg" ContentType="image/jpeg"/>
  <Override PartName="/ppt/media/image36.png" ContentType="image/png"/>
  <Override PartName="/ppt/media/image9.jpeg" ContentType="image/jpeg"/>
  <Override PartName="/ppt/media/image5.png" ContentType="image/png"/>
  <Override PartName="/ppt/media/image2.gif" ContentType="image/gif"/>
  <Override PartName="/ppt/media/image15.gif" ContentType="image/gif"/>
  <Override PartName="/ppt/media/image6.png" ContentType="image/png"/>
  <Override PartName="/ppt/media/image42.jpeg" ContentType="image/jpeg"/>
  <Override PartName="/ppt/media/image8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243-0F85-40CF-9ED8-3E2D3B8C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A4A-D0A6-41BD-A84D-AD1546E8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E1A-1C9F-406D-A3CF-43634D32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4F5-B3E2-4605-A41C-C5DE8290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E6B-8735-4A12-BFB2-0F00909F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AA1-173B-414D-86B5-35E90942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433-27F2-4091-A7A8-6F06B413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5BC-5C51-4492-89F9-DEF7AFCF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D8A-12B4-4E69-A1CB-598D3AD2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160-4AF7-4B00-8EFE-B2FDE38D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CB5-DE80-48B2-9D92-B5823B8B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4F0-8EA7-4CD4-A835-559D38C7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D75C-6732-41FB-A6F6-81B823F61F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0.xml"/><Relationship Id="rId6" Type="http://schemas.openxmlformats.org/officeDocument/2006/relationships/image" Target="../media/image4.png"/><Relationship Id="rId7" Type="http://schemas.openxmlformats.org/officeDocument/2006/relationships/slide" Target="slide36.xml"/><Relationship Id="rId8" Type="http://schemas.openxmlformats.org/officeDocument/2006/relationships/image" Target="../media/image5.png"/><Relationship Id="rId9" Type="http://schemas.openxmlformats.org/officeDocument/2006/relationships/slide" Target="slide48.xml"/><Relationship Id="rId10" Type="http://schemas.openxmlformats.org/officeDocument/2006/relationships/image" Target="../media/image6.png"/><Relationship Id="rId11" Type="http://schemas.openxmlformats.org/officeDocument/2006/relationships/slide" Target="slide10.xml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image" Target="../media/image5.png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slide" Target="slide48.xml"/><Relationship Id="rId7" Type="http://schemas.openxmlformats.org/officeDocument/2006/relationships/image" Target="../media/image6.png"/><Relationship Id="rId8" Type="http://schemas.openxmlformats.org/officeDocument/2006/relationships/slide" Target="slide10.xml"/><Relationship Id="rId9" Type="http://schemas.openxmlformats.org/officeDocument/2006/relationships/image" Target="../media/image7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image" Target="../media/image6.png"/><Relationship Id="rId13" Type="http://schemas.openxmlformats.org/officeDocument/2006/relationships/image" Target="../media/image36.png"/><Relationship Id="rId14" Type="http://schemas.openxmlformats.org/officeDocument/2006/relationships/image" Target="../media/image37.wmf"/><Relationship Id="rId15" Type="http://schemas.openxmlformats.org/officeDocument/2006/relationships/image" Target="../media/image38.png"/><Relationship Id="rId16" Type="http://schemas.openxmlformats.org/officeDocument/2006/relationships/image" Target="../media/image39.gif"/><Relationship Id="rId1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gif"/><Relationship Id="rId3" Type="http://schemas.openxmlformats.org/officeDocument/2006/relationships/image" Target="../media/image54.gif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gif"/><Relationship Id="rId6" Type="http://schemas.openxmlformats.org/officeDocument/2006/relationships/image" Target="../media/image60.gif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gif"/><Relationship Id="rId3" Type="http://schemas.openxmlformats.org/officeDocument/2006/relationships/image" Target="../media/image63.gif"/><Relationship Id="rId4" Type="http://schemas.openxmlformats.org/officeDocument/2006/relationships/image" Target="../media/image64.gif"/><Relationship Id="rId5" Type="http://schemas.openxmlformats.org/officeDocument/2006/relationships/image" Target="../media/image65.gif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3.gi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7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image" Target="../media/image2.gif"/><Relationship Id="rId4" Type="http://schemas.openxmlformats.org/officeDocument/2006/relationships/image" Target="../media/image78.gi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jpeg"/><Relationship Id="rId3" Type="http://schemas.openxmlformats.org/officeDocument/2006/relationships/image" Target="../media/image80.gi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gi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4.1.2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点、线、面、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2133720"/>
            <a:ext cx="7920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过程与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通过学习点、线、面、体之间的关系，进一步发展抽象概括能力和形象思维能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通过学习点、线、面、体之间的关系，发展从不同角度体现事物之间联系的能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通过对点、线、面、体的认识，经历用图形描述现实世界的过程，用它们来解释生活中的现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76360" y="0"/>
            <a:ext cx="2849400" cy="1709640"/>
            <a:chOff x="3276360" y="0"/>
            <a:chExt cx="2849400" cy="1709640"/>
          </a:xfrm>
        </p:grpSpPr>
        <p:sp>
          <p:nvSpPr>
            <p:cNvPr id="64" name="filecab3"/>
            <p:cNvSpPr/>
            <p:nvPr/>
          </p:nvSpPr>
          <p:spPr>
            <a:xfrm rot="10800000">
              <a:off x="327636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389412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451640" y="1197000"/>
            <a:ext cx="1032120" cy="749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2708280"/>
            <a:ext cx="777708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情感态度与价值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联系现实世界中各种常见的几何体的情景，认识教学与现实生活的密切联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203280" y="0"/>
            <a:ext cx="2849400" cy="1709640"/>
            <a:chOff x="3203280" y="0"/>
            <a:chExt cx="2849400" cy="1709640"/>
          </a:xfrm>
        </p:grpSpPr>
        <p:sp>
          <p:nvSpPr>
            <p:cNvPr id="69" name="filecab3"/>
            <p:cNvSpPr/>
            <p:nvPr/>
          </p:nvSpPr>
          <p:spPr>
            <a:xfrm rot="10800000">
              <a:off x="320328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82104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87280" y="5442120"/>
            <a:ext cx="6828120" cy="1415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35280" y="2276640"/>
            <a:ext cx="4968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、线、面、体之间的关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4076640"/>
            <a:ext cx="66438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难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动成线、线动成面、面动成体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700360" y="0"/>
            <a:ext cx="3551040" cy="1692360"/>
            <a:chOff x="2700360" y="0"/>
            <a:chExt cx="3551040" cy="1692360"/>
          </a:xfrm>
        </p:grpSpPr>
        <p:sp>
          <p:nvSpPr>
            <p:cNvPr id="75" name="filecab3"/>
            <p:cNvSpPr/>
            <p:nvPr/>
          </p:nvSpPr>
          <p:spPr>
            <a:xfrm rot="10800000">
              <a:off x="2700360" y="853920"/>
              <a:ext cx="355104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重难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3689280" y="0"/>
              <a:ext cx="16189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451640" y="1700280"/>
            <a:ext cx="917640" cy="1081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912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90560" y="2347920"/>
            <a:ext cx="1119240" cy="17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8892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4560" y="277956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612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正方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11640" y="2995560"/>
            <a:ext cx="1523880" cy="68580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7560" y="414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方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938920" y="2492280"/>
            <a:ext cx="1176120" cy="1737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281640" y="429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棱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>
            <a:lum contrast="-44000"/>
          </a:blip>
          <a:stretch/>
        </p:blipFill>
        <p:spPr>
          <a:xfrm>
            <a:off x="7380360" y="2492280"/>
            <a:ext cx="1463760" cy="153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020080" y="42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530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何体简称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4534560" y="1231920"/>
            <a:ext cx="360360" cy="734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91520 h 7344000"/>
              <a:gd name="textAreaBottom" fmla="*/ 7152480 h 734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258920" y="765000"/>
            <a:ext cx="7058160" cy="544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002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907920"/>
            <a:ext cx="61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围着体的是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面有平的面和曲的面两种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3960720" cy="2968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4032360" cy="3112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76720" y="5516640"/>
            <a:ext cx="27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812000" y="765000"/>
            <a:ext cx="952560" cy="714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64000" y="522936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427640" y="1527120"/>
            <a:ext cx="4390920" cy="3557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61440" y="248616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33640" y="676440"/>
            <a:ext cx="6481440" cy="4860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0560" y="5573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84920" y="1757520"/>
            <a:ext cx="12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709640" y="5141880"/>
            <a:ext cx="100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876920" y="2044800"/>
            <a:ext cx="288108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50920" y="981000"/>
            <a:ext cx="6336000" cy="4740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4000" y="5013360"/>
            <a:ext cx="14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484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47640" y="530064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547640" y="1773360"/>
            <a:ext cx="288000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1008000"/>
            <a:ext cx="6985080" cy="4726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11280" y="1413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345440" cy="3967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635280" y="62064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551664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59280" y="4869000"/>
            <a:ext cx="7272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427640" y="1052640"/>
            <a:ext cx="0" cy="107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987280" y="0"/>
            <a:ext cx="2849400" cy="1709640"/>
            <a:chOff x="2987280" y="0"/>
            <a:chExt cx="2849400" cy="1709640"/>
          </a:xfrm>
        </p:grpSpPr>
        <p:sp>
          <p:nvSpPr>
            <p:cNvPr id="43" name="filecab3"/>
            <p:cNvSpPr/>
            <p:nvPr/>
          </p:nvSpPr>
          <p:spPr>
            <a:xfrm rot="10800000">
              <a:off x="298728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新课导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60504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/>
          <p:nvPr/>
        </p:nvSpPr>
        <p:spPr>
          <a:xfrm>
            <a:off x="1692360" y="2060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从图中找出下列几何体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80000" y="2997360"/>
            <a:ext cx="1155600" cy="1131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74920" y="2924280"/>
            <a:ext cx="1371600" cy="1319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156360" y="2924280"/>
            <a:ext cx="109044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156360" y="458136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780000" y="4365720"/>
            <a:ext cx="1439640" cy="143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3"/>
          <a:stretch/>
        </p:blipFill>
        <p:spPr>
          <a:xfrm>
            <a:off x="1619280" y="4365720"/>
            <a:ext cx="928800" cy="1460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80000" y="49417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71640" y="1663560"/>
            <a:ext cx="3035160" cy="2845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356000" y="1447920"/>
            <a:ext cx="4176720" cy="3133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050920" y="765000"/>
            <a:ext cx="4453200" cy="5626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024320" y="2852640"/>
            <a:ext cx="6069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19280" y="836640"/>
            <a:ext cx="4289400" cy="5419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736680" y="2852640"/>
            <a:ext cx="6069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6193080" cy="4194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43480" y="560880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2205000"/>
            <a:ext cx="109044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950160" y="2205000"/>
            <a:ext cx="1371600" cy="1319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59280" y="227808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003640" y="4292640"/>
            <a:ext cx="1295640" cy="1292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10" action="ppaction://hlinksldjump"/>
          </p:cNvPr>
          <p:cNvPicPr/>
          <p:nvPr/>
        </p:nvPicPr>
        <p:blipFill>
          <a:blip r:embed="rId11">
            <a:lum contrast="-6000"/>
          </a:blip>
          <a:stretch/>
        </p:blipFill>
        <p:spPr>
          <a:xfrm>
            <a:off x="757080" y="4076640"/>
            <a:ext cx="1657440" cy="1623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684360" y="2565360"/>
            <a:ext cx="1676160" cy="1066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rcRect l="0" t="0" r="184" b="273"/>
          <a:stretch/>
        </p:blipFill>
        <p:spPr>
          <a:xfrm>
            <a:off x="3059280" y="4149720"/>
            <a:ext cx="1295280" cy="1447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90720" y="1147680"/>
            <a:ext cx="77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包围着下面这些立体图形的各个面中，哪些面是平的？哪些面是曲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68560" y="3573360"/>
            <a:ext cx="74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                  B                     C                  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5587920"/>
            <a:ext cx="73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                      F                     G                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4"/>
          <a:stretch/>
        </p:blipFill>
        <p:spPr>
          <a:xfrm>
            <a:off x="7093080" y="4221000"/>
            <a:ext cx="1052280" cy="13845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1087560" y="404640"/>
            <a:ext cx="2620440" cy="852480"/>
            <a:chOff x="1087560" y="404640"/>
            <a:chExt cx="2620440" cy="852480"/>
          </a:xfrm>
        </p:grpSpPr>
        <p:sp>
          <p:nvSpPr>
            <p:cNvPr id="140" name=""/>
            <p:cNvSpPr/>
            <p:nvPr/>
          </p:nvSpPr>
          <p:spPr>
            <a:xfrm>
              <a:off x="1555560" y="4633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5"/>
            <a:stretch/>
          </p:blipFill>
          <p:spPr>
            <a:xfrm>
              <a:off x="1087560" y="4046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" descr=""/>
          <p:cNvPicPr/>
          <p:nvPr/>
        </p:nvPicPr>
        <p:blipFill>
          <a:blip r:embed="rId16"/>
          <a:stretch/>
        </p:blipFill>
        <p:spPr>
          <a:xfrm>
            <a:off x="3851280" y="260280"/>
            <a:ext cx="1905120" cy="647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3743280" cy="3743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930920" y="1700280"/>
            <a:ext cx="3746520" cy="3679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83664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线有直线和曲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1080" y="544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30160" y="544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843280" y="981000"/>
            <a:ext cx="4132080" cy="4272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995640" y="551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979640" y="1125360"/>
            <a:ext cx="5472000" cy="4322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995640" y="5661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6264360" cy="4190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95640" y="5661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6170400" cy="3614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95640" y="551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7489800" cy="4573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979640" y="10526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95640" y="551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187280" y="907920"/>
            <a:ext cx="7128000" cy="446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995640" y="5589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6186240" cy="4144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284720" y="566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187280" y="3139920"/>
            <a:ext cx="4034160" cy="1584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87280" y="1484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从下面几何体中找出点、线、面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299280" y="2779560"/>
            <a:ext cx="1793880" cy="180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42920" y="1224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几何图形是由点、线、面、体组成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5040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线和线相交形成点，面和面相交形成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2425680"/>
            <a:ext cx="446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中有几个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面和面相交的地方形成了多少条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线和线相交的地方形成了多少个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4360" y="2714760"/>
            <a:ext cx="1326960" cy="1876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197080" y="2498760"/>
            <a:ext cx="1930320" cy="2089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9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7708680" cy="4969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215960" y="549360"/>
            <a:ext cx="60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484000" y="1268280"/>
            <a:ext cx="201636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067280" y="1268280"/>
            <a:ext cx="43344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00720" y="1268280"/>
            <a:ext cx="158400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0720" y="1268280"/>
            <a:ext cx="237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1268280"/>
            <a:ext cx="21564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1268280"/>
            <a:ext cx="23032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1268280"/>
            <a:ext cx="115092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195640" y="1111320"/>
            <a:ext cx="4171680" cy="4172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421080" y="54309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64000" y="3630600"/>
            <a:ext cx="504720" cy="20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211280" y="3198960"/>
            <a:ext cx="73080" cy="2305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284720" y="4351320"/>
            <a:ext cx="50328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355640" y="4206960"/>
            <a:ext cx="1081080" cy="1297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284360" y="2119320"/>
            <a:ext cx="1368360" cy="331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197080" y="83340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面与面相交的地方形成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405080" y="1484280"/>
            <a:ext cx="6335640" cy="4753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V="1">
            <a:off x="4573440" y="3932280"/>
            <a:ext cx="936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1800" y="3787920"/>
            <a:ext cx="2880000" cy="72720"/>
          </a:xfrm>
          <a:custGeom>
            <a:avLst/>
            <a:gdLst/>
            <a:ahLst/>
            <a:rect l="l" t="t" r="r" b="b"/>
            <a:pathLst>
              <a:path w="1814" h="46">
                <a:moveTo>
                  <a:pt x="0" y="0"/>
                </a:moveTo>
                <a:cubicBezTo>
                  <a:pt x="0" y="0"/>
                  <a:pt x="907" y="23"/>
                  <a:pt x="1814" y="4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ShockwaveFlash1"/>
          <p:cNvGraphicFramePr/>
          <p:nvPr/>
        </p:nvGraphicFramePr>
        <p:xfrm>
          <a:off x="1332000" y="1197000"/>
          <a:ext cx="6694560" cy="39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197000"/>
                    <a:ext cx="6694560" cy="396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203640" y="53006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动成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63640" y="98100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动成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380360" y="112536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511280" y="1844640"/>
            <a:ext cx="3024360" cy="4032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5038560" y="2060640"/>
            <a:ext cx="2846520" cy="37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970680" cy="5227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8000" y="76500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动成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3600720" cy="2400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51640" y="3933720"/>
            <a:ext cx="2592360" cy="2100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2577960" cy="1933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2556000" y="3933720"/>
            <a:ext cx="1676160" cy="2095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900000" y="436572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ShockwaveFlash1"/>
          <p:cNvGraphicFramePr/>
          <p:nvPr/>
        </p:nvGraphicFramePr>
        <p:xfrm>
          <a:off x="1476360" y="1125360"/>
          <a:ext cx="6767640" cy="410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125360"/>
                    <a:ext cx="6767640" cy="410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3059280" y="5445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动成面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356000" y="1562040"/>
            <a:ext cx="0" cy="25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56000" y="1561680"/>
            <a:ext cx="457200" cy="25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56000" y="1714320"/>
            <a:ext cx="91440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56000" y="1866960"/>
            <a:ext cx="137160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79760" y="2018880"/>
            <a:ext cx="1652760" cy="2133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56000" y="2247840"/>
            <a:ext cx="190512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56000" y="2476080"/>
            <a:ext cx="2210040" cy="167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356000" y="2857680"/>
            <a:ext cx="243864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356000" y="3238560"/>
            <a:ext cx="266724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56000" y="3619440"/>
            <a:ext cx="281952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4152960"/>
            <a:ext cx="2895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3898800" y="1638000"/>
            <a:ext cx="45720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3517920" y="1714320"/>
            <a:ext cx="83808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3212640" y="1866960"/>
            <a:ext cx="114300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908080" y="2018880"/>
            <a:ext cx="1447560" cy="2133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603520" y="2247840"/>
            <a:ext cx="175248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298240" y="2552400"/>
            <a:ext cx="205740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070000" y="2857680"/>
            <a:ext cx="228600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1841040" y="3238560"/>
            <a:ext cx="25146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689120" y="3695760"/>
            <a:ext cx="26668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612800" y="415296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840600">
            <a:off x="1519920" y="1607040"/>
            <a:ext cx="5770080" cy="564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18" y="2315"/>
                </a:moveTo>
                <a:arcTo wR="10800" hR="10800" stAng="-7693212" swAng="10106754"/>
                <a:lnTo>
                  <a:pt x="10800" y="10800"/>
                </a:lnTo>
                <a:close/>
              </a:path>
              <a:path fill="none" w="21600" h="21600">
                <a:moveTo>
                  <a:pt x="4118" y="2315"/>
                </a:moveTo>
                <a:arcTo wR="10800" hR="10800" stAng="-7693212" swAng="10106754"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59280" y="4781520"/>
            <a:ext cx="26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动成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4000"/>
                            </p:stCondLst>
                            <p:childTnLst>
                              <p:par>
                                <p:cTn id="8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500"/>
                            </p:stCondLst>
                            <p:childTnLst>
                              <p:par>
                                <p:cTn id="8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500"/>
                            </p:stCondLst>
                            <p:childTnLst>
                              <p:par>
                                <p:cTn id="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6000"/>
                            </p:stCondLst>
                            <p:childTnLst>
                              <p:par>
                                <p:cTn id="8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6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70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75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8000"/>
                            </p:stCondLst>
                            <p:childTnLst>
                              <p:par>
                                <p:cTn id="8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8500"/>
                            </p:stCondLst>
                            <p:childTnLst>
                              <p:par>
                                <p:cTn id="8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9000"/>
                            </p:stCondLst>
                            <p:childTnLst>
                              <p:par>
                                <p:cTn id="8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9500"/>
                            </p:stCondLst>
                            <p:childTnLst>
                              <p:par>
                                <p:cTn id="8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101080" y="234936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动成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71640" y="3429000"/>
            <a:ext cx="2209680" cy="2438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651640" y="4762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4067280" y="3789360"/>
            <a:ext cx="2571480" cy="2428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403280" y="692280"/>
            <a:ext cx="3362400" cy="2163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908000" y="1484280"/>
            <a:ext cx="5400720" cy="4051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009800" y="2421000"/>
            <a:ext cx="53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动成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050920" y="5805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动成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ShockwaveFlash1"/>
          <p:cNvGraphicFramePr/>
          <p:nvPr/>
        </p:nvGraphicFramePr>
        <p:xfrm>
          <a:off x="1332000" y="1197000"/>
          <a:ext cx="64818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197000"/>
                    <a:ext cx="6481800" cy="432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Ba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156360" y="164160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点是构成图形的基本元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971640" y="3645000"/>
            <a:ext cx="6840360" cy="2448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057400" y="836640"/>
            <a:ext cx="3809880" cy="266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6113520" cy="4584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1763640" y="836640"/>
            <a:ext cx="6330960" cy="4748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971640" y="1413000"/>
            <a:ext cx="7561080" cy="37306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547640" y="1052640"/>
            <a:ext cx="5904000" cy="4427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35280" y="55897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点是构成图形的基本元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1763640" y="907920"/>
            <a:ext cx="5891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9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11280" y="2060640"/>
            <a:ext cx="7848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．几何图形是由点、线、面、体组成．点是构成图形的基本元素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．点无大小，线有直线和曲线，面有平的面和曲的面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．点动成线，线动成面，面动成体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．体由面围成，面与面相交成线，线与线相交成点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203280" y="0"/>
            <a:ext cx="2849400" cy="1709640"/>
            <a:chOff x="3203280" y="0"/>
            <a:chExt cx="2849400" cy="1709640"/>
          </a:xfrm>
        </p:grpSpPr>
        <p:sp>
          <p:nvSpPr>
            <p:cNvPr id="250" name="filecab3"/>
            <p:cNvSpPr/>
            <p:nvPr/>
          </p:nvSpPr>
          <p:spPr>
            <a:xfrm rot="10800000">
              <a:off x="320328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382104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7308720" y="9810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4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9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4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9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26920" y="2674440"/>
            <a:ext cx="7632720" cy="27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正方体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顶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圆柱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平面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曲面围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圆柱是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而成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锥是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旋转而成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36720" y="28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93800" y="2781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49440" y="3486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94160" y="35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41800" y="4133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60720" y="4854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131640" y="333360"/>
            <a:ext cx="2849400" cy="1709640"/>
            <a:chOff x="3131640" y="333360"/>
            <a:chExt cx="2849400" cy="1709640"/>
          </a:xfrm>
        </p:grpSpPr>
        <p:sp>
          <p:nvSpPr>
            <p:cNvPr id="261" name="filecab3"/>
            <p:cNvSpPr/>
            <p:nvPr/>
          </p:nvSpPr>
          <p:spPr>
            <a:xfrm rot="10800000">
              <a:off x="3131640" y="120456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3749400" y="33336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164360" y="1484280"/>
            <a:ext cx="10098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9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7043760" cy="5283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55640" y="1668960"/>
            <a:ext cx="80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某人用如图所示的胶滚沿从左到右的方向将图案滚涂到墙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给出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图案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符合图示滚涂出的图案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未标题-9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3716280"/>
            <a:ext cx="8316720" cy="15001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926520" y="256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55640" y="16257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将一个长方形绕它的一边所在的直线旋转一周，得到的几何体是圆柱，现在有一个长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，宽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的长方形，分别绕它的长、宽所在的直线旋转一周，得到不同的圆柱体，它们的体积分别是多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476360" y="3284640"/>
            <a:ext cx="2052000" cy="2449440"/>
            <a:chOff x="1476360" y="3284640"/>
            <a:chExt cx="2052000" cy="2449440"/>
          </a:xfrm>
        </p:grpSpPr>
        <p:sp>
          <p:nvSpPr>
            <p:cNvPr id="269" name=""/>
            <p:cNvSpPr/>
            <p:nvPr/>
          </p:nvSpPr>
          <p:spPr>
            <a:xfrm>
              <a:off x="1476360" y="3284640"/>
              <a:ext cx="0" cy="2449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76360" y="4003560"/>
              <a:ext cx="1582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76360" y="3500280"/>
              <a:ext cx="289080" cy="432000"/>
            </a:xfrm>
            <a:custGeom>
              <a:avLst/>
              <a:gdLst>
                <a:gd name="textAreaLeft" fmla="*/ 38520 w 289080"/>
                <a:gd name="textAreaRight" fmla="*/ 250560 w 289080"/>
                <a:gd name="textAreaTop" fmla="*/ 75600 h 432000"/>
                <a:gd name="textAreaBottom" fmla="*/ 31320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05280" y="4960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34160" y="4292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932360" y="3141720"/>
            <a:ext cx="1548720" cy="2593800"/>
            <a:chOff x="4932360" y="3141720"/>
            <a:chExt cx="1548720" cy="2593800"/>
          </a:xfrm>
        </p:grpSpPr>
        <p:sp>
          <p:nvSpPr>
            <p:cNvPr id="275" name=""/>
            <p:cNvSpPr/>
            <p:nvPr/>
          </p:nvSpPr>
          <p:spPr>
            <a:xfrm>
              <a:off x="4932360" y="3141720"/>
              <a:ext cx="0" cy="2448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681440" y="3966840"/>
              <a:ext cx="1582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32360" y="3284640"/>
              <a:ext cx="289080" cy="431640"/>
            </a:xfrm>
            <a:custGeom>
              <a:avLst/>
              <a:gdLst>
                <a:gd name="textAreaLeft" fmla="*/ 38520 w 289080"/>
                <a:gd name="textAreaRight" fmla="*/ 250560 w 289080"/>
                <a:gd name="textAreaTop" fmla="*/ 75600 h 431640"/>
                <a:gd name="textAreaBottom" fmla="*/ 3132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74000" y="5214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86880" y="4292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093080" y="414972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50.0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㎝</a:t>
            </a:r>
            <a:r>
              <a:rPr b="0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24.4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㎝</a:t>
            </a:r>
            <a:r>
              <a:rPr b="0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71640" y="24210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84360" y="3357720"/>
            <a:ext cx="7848360" cy="199368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3058920" y="206280"/>
            <a:ext cx="2849400" cy="1709640"/>
            <a:chOff x="3058920" y="206280"/>
            <a:chExt cx="2849400" cy="1709640"/>
          </a:xfrm>
        </p:grpSpPr>
        <p:sp>
          <p:nvSpPr>
            <p:cNvPr id="284" name="filecab3"/>
            <p:cNvSpPr/>
            <p:nvPr/>
          </p:nvSpPr>
          <p:spPr>
            <a:xfrm rot="10800000">
              <a:off x="3058920" y="107748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习题答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3"/>
            <a:stretch/>
          </p:blipFill>
          <p:spPr>
            <a:xfrm>
              <a:off x="3676680" y="20628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6372360" y="1773360"/>
            <a:ext cx="1285920" cy="12286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42920" y="768240"/>
            <a:ext cx="770580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从图中能得到长方体、圆柱、球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从图中能得到圆、三角形、长方形、正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形、五边形、六边形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从正面看到的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从上面看到的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左面看到的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从后面看到的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从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看到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如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492360" y="3457440"/>
            <a:ext cx="4751640" cy="2924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1008000" cy="1265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6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6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1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6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1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0000" y="11145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除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排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图外，其余均能折叠成正方体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 类似的正方体展开图还有如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7201080" cy="290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042920" y="836640"/>
            <a:ext cx="7651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图主要含有长方体等，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图主要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 有长方体、圆柱等，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图主要含有长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、棱锥等，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图形主要含有圆柱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要用到长方体、棱柱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“横看成岭侧成峰”说明从不同方向看立体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形得到的图形是不同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图是一个圆柱，从正面和左面看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长方体，从上面看是一个圆；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个圆锥，从正面和左面看都是等腰三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形，从上面看是一个圆（包括圆心）；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图是一个球，从正面、左面、上面看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187280" y="9079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图能折叠成一个圆柱，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图能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叠成一个棱柱，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图能折叠成一个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锥，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图能折叠成一个棱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折痕如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572000" y="3068640"/>
            <a:ext cx="2881440" cy="2881440"/>
            <a:chOff x="4572000" y="3068640"/>
            <a:chExt cx="2881440" cy="2881440"/>
          </a:xfrm>
        </p:grpSpPr>
        <p:sp>
          <p:nvSpPr>
            <p:cNvPr id="295" name=""/>
            <p:cNvSpPr/>
            <p:nvPr/>
          </p:nvSpPr>
          <p:spPr>
            <a:xfrm>
              <a:off x="4572000" y="3068640"/>
              <a:ext cx="2881440" cy="28814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72000" y="3068640"/>
              <a:ext cx="1441440" cy="287964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72000" y="3068640"/>
              <a:ext cx="2881440" cy="144000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013440" y="4508280"/>
              <a:ext cx="1440000" cy="143964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2232360" cy="165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4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2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469200" cy="4851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843280" y="620640"/>
            <a:ext cx="3951360" cy="560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00000" y="2421000"/>
            <a:ext cx="7632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知识与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进一步认识点、线、面、点的概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理解点、线、面、体之间的关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276360" y="0"/>
            <a:ext cx="2849400" cy="1709640"/>
            <a:chOff x="3276360" y="0"/>
            <a:chExt cx="2849400" cy="1709640"/>
          </a:xfrm>
        </p:grpSpPr>
        <p:sp>
          <p:nvSpPr>
            <p:cNvPr id="59" name="filecab3"/>
            <p:cNvSpPr/>
            <p:nvPr/>
          </p:nvSpPr>
          <p:spPr>
            <a:xfrm rot="10800000">
              <a:off x="327636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389412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26920" y="4869000"/>
            <a:ext cx="6828120" cy="1415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05:46:48Z</dcterms:created>
  <dc:creator/>
  <dc:description/>
  <dc:language>en-US</dc:language>
  <cp:lastModifiedBy>微软用户</cp:lastModifiedBy>
  <dcterms:modified xsi:type="dcterms:W3CDTF">2014-06-30T01:16:10Z</dcterms:modified>
  <cp:revision>49</cp:revision>
  <dc:subject/>
  <dc:title>4.1.2 点、线、面、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450000000000010250600207f7000400038000</vt:lpwstr>
  </property>
</Properties>
</file>